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2750-B09A-4527-A32E-F06F2C13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FE1E4-B317-48C0-9C3C-C26ECF78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47B9-9447-4610-9364-C32DF791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94F6-930C-4C44-9CC9-E8A4D0B1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10A2-28E2-470C-97BB-4A574ECA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4F6E-1FA3-4A95-B158-767554B3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1056-A49B-4BFC-B1A3-F4D89F92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D875-A322-4CB6-BCB3-874FA7F3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7804-85FC-4053-AABD-D8E3C308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2FF1-EAE8-4BC8-9319-2C2E6A86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946A-69D9-4784-A16A-A6EE52F8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423E-E9C2-4590-B769-3163C9D0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0F01-98E5-478C-A1A4-95358537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8C69-4D5A-4824-B698-7A266D71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CAF7-9A8F-42AD-BDD7-459356E8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F6B0-39BC-4167-8F68-CC53364D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C159-3F69-44C9-9BCE-3D85A6F0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1A3A-CDBB-4995-BE01-EB3B5BF2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7CD9D-E68D-4953-89BE-CAC6D657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D9877-77F3-47BA-947C-29C4847F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34DC-86C9-4393-B03D-6E484912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2766E-B0B3-4053-80A4-FDF43EB7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A3AF-4980-48B9-B621-7A2B562D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AE95-7B57-4352-86C0-B39470D7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55D3-1DE8-450A-823F-B15E28813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EEDF-35A6-4554-903C-D3CBF2E4B4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oordination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renzo says he likes to travel, _____ 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ver seems to leave his hometow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f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ye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renzo says he likes to travel, _____ 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ver seems to leave his hometow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f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ye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dislike cucumbers ___ they make me burp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; therefore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, s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dislike cucumbers ___ they make me burp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; therefore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, s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ng teenagers are not little children, ____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e they fully grown adult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n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ng teenagers are not little children, ____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e they fully grown adult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n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grandparents are elderly, ______ the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ill lead fun, active liv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n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f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b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grandparents are elderly, ______ the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ill lead fun, active liv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n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f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b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disliked the movie _______, we couldn’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p making fun of the bad act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; inst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; frequentl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; afterwar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disliked the movie _______, we couldn’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p making fun of the bad act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; inst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; frequentl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; afterwar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is coordination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ordinati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the joining of two closely related sentenc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LAT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NTENC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Roy quit his job. He got a new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o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JOIN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Roy quit his job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a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e got 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o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don’t like green vegetables ________, I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arely eat broccoli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; therefo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; afterwar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; stil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don’t like green vegetables ________, I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arely eat broccoli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; therefo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; afterwar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; stil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 answer to fill i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void white rice and bread ____, eat whol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rai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; afterwar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; inst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; the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 answer to fill i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void white rice and bread ____, eat whol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rai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; afterwar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; inst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; the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238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can join sentences in the following ways. (See your textbook for more details and examples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a and a coordinating conjunc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or, and, nor, but, or, yet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s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: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 like pizza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, but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 try not to eat too much of 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micolon (;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lease don’t pinch the baby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;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he’ll c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micolon and a conjunctive adverb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lik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fterward, also, as a result, in addition, then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for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ate too much pizza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; as a result,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 felt il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like the color of this shirt, ____ it doesn’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like the color of this shirt, ____ it doesn’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b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’ve graduated from high school, ____ now I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m going to colleg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’ve graduated from high school, ____ now I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m going to colleg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don’t like loud music, ____ I am going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ar earplugs at the concer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ye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don’t like loud music, ____ I am going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ar earplugs at the concer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ye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16:27:25Z</dcterms:modified>
  <cp:revision>169</cp:revision>
  <dc:subject/>
  <dc:title>Sentence Fragments</dc:title>
</cp:coreProperties>
</file>